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EA74-60BA-4278-8E23-0DFE48A19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9306-9EC2-4469-9CFB-1D0E672657B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1925-30E6-448F-A912-A47898741B43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F67E-D6F7-471D-8605-A364BCB67A66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BE4-E115-4BAB-AA08-E0D6A1CC9388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4BE7-966B-43D1-84F6-B2E1B3E4326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D23-0CB3-4851-A8B6-69F6E39C91C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2633-8882-4257-933C-7182E15E918E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69B5-2F21-4357-8BF2-3F2F303D675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DBB-727E-4B81-9212-1C8FB48A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D23-7B89-48F4-972A-70C3C4B4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4BF-B516-4F3E-9BFB-1D90FA49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38B-E8D1-4854-BE29-BD10A510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7E06-8EB8-47A0-9F43-4BF03CA4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9C94-94B0-4831-88C3-175E6558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00BF-60A0-4D3F-ACCF-F30C62BD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477D-131A-4075-B0B8-39A8A692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9216-AF30-4854-A2EC-6601D0BA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D658-7BFF-40D6-9C0C-52D1DDDE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74DC-499E-4651-A51F-236E1B27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27D-64AE-4DE1-8FEE-6DE17BA4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DBFC-5749-4172-8C62-A16A8B6C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220E-0B19-4EB2-A117-DDC25299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1AA6-88CA-4E1C-9F82-EFB0F5B6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3B01-366F-4226-96BD-14A61E22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9437-DC97-49E6-B764-3F0EAFD1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655B2-0F2E-4D8E-9F46-A04BDB8D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CBA7-6A48-48A6-BED6-B350C32A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45F9C-F1BD-4395-86A9-33C3B905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1082-4E6E-4D49-8279-1C9BEFE8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6B8A-4729-43ED-BA89-E2DFA4E9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7D0-B18F-4325-B46F-34C3AD20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FC96-ACF7-499E-833F-21977DA3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A873-48DD-42FE-814F-DEB806A5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BC52-EC29-4B84-BFCE-C3C06438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DC495-2B28-4835-961D-EEDAE948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94D3-9D10-41F8-962E-92C5B2A1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1EEDB-993F-4BD4-9CED-2468AC2E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C9E3A-6924-4BDC-90C4-79D50D2B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357F-FF72-4441-9D11-094F548E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7672-480C-410F-96E8-07649643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266A-44F8-44A5-AF37-692B2228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3D1-5AA9-4792-8D3C-2E0C1D59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972E2-3809-42EC-BCB8-48134F62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0ADF1-B080-4D3C-A68D-38C979BE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2015-6C44-4125-BAA9-67AEA446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E937-650A-48C4-A909-12C330F3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2A2F8-CDE1-4741-86B3-910BBCE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3614-9603-4AB3-9A99-0F0FC8D4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75CA-7DAA-4A4C-8CAF-42604E5A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55A1-62A4-4AD9-A5C5-DFB57E69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36E4D-A823-48A1-9C8C-7F03A248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416-A06F-46DF-98A7-3A6ED52B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4F1-102C-4E73-B0D9-7DE2A446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690-827C-4003-A2A5-8B64344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A95-7C31-437F-965B-10BC78DF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BE4-57E7-4BFD-A69B-44ED2DD5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E5CF-5570-42D5-9388-CB03DB22F0D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77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FD23-F1E8-479E-ADB2-D60C1E1E2A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31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232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33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234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3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36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237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40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241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2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3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244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5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6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247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8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9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250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2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253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56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8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59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1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62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3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4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65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7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68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71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3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74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6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77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8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9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80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1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2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83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4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5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86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7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8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89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0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1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92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3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4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9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6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7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98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9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0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301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2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03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05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306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7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8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309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0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1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312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3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4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315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6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7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318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9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0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321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2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3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324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5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6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327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8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9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330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1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2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333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4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5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336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7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338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339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340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2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3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5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6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47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48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349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0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1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2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3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4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5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6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7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8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9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0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1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2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D52A-0242-42C9-9CD9-A0533337F44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0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0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0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sp>
          <p:nvSpPr>
            <p:cNvPr id="40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1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F214-9328-4768-B3B1-376AEDA1E7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184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ning Your Presentational Skill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1" descr="th.jpg"/>
          <p:cNvPicPr/>
          <p:nvPr/>
        </p:nvPicPr>
        <p:blipFill>
          <a:blip r:embed="rId1"/>
          <a:stretch/>
        </p:blipFill>
        <p:spPr>
          <a:xfrm>
            <a:off x="2414520" y="29718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 of teaching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 direct teach lesson: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the objective (s) clear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 the students as mu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ossible (try to break u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livery of content 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nking the information and inserting several brain break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 and model the concep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 &amp; A or some other review at the closure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Picture 1" descr="th-1.jpg"/>
          <p:cNvPicPr/>
          <p:nvPr/>
        </p:nvPicPr>
        <p:blipFill>
          <a:blip r:embed="rId1"/>
          <a:stretch/>
        </p:blipFill>
        <p:spPr>
          <a:xfrm>
            <a:off x="640080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oing a teach: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ake note of the importance of the three skills of presenting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al:  What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l:  How you say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:  How you look and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134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8" descr="MCj02975670000[1]"/>
          <p:cNvPicPr/>
          <p:nvPr/>
        </p:nvPicPr>
        <p:blipFill>
          <a:blip r:embed="rId1"/>
          <a:stretch/>
        </p:blipFill>
        <p:spPr>
          <a:xfrm>
            <a:off x="3429000" y="4889520"/>
            <a:ext cx="274320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Visual: how you look &amp; ac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ss professional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welcoming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 communication – Look at every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y language – Be open to the stud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late whenever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 – Use an anticipatory s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– Review what was learned; ha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 and answer se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using visual aids to make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ore comprehensible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4" descr="MCj03341680000[1]"/>
          <p:cNvPicPr/>
          <p:nvPr/>
        </p:nvPicPr>
        <p:blipFill>
          <a:blip r:embed="rId1"/>
          <a:stretch/>
        </p:blipFill>
        <p:spPr>
          <a:xfrm>
            <a:off x="7015320" y="4419720"/>
            <a:ext cx="1823760" cy="20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ocal: how you say i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e enthusiasm, sincerity, and confid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the positive, not the neg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y the rhythm, rate, and volume of your vo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smooth transitions.  Prepare the students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 regarding upcoming changes in activ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example, you may say something like, “Before we move on to the next activity, does anyone have any question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unciate and project your vo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on avoiding saying, “You guys,” “uh,” “um,”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erbal: what you s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you provide accurate inform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know the answer to a question,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make up an answ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on the timing of what you do and s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what you are saying coincides with any references you make to visuals and other instructional materia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pare the tea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your lesson objective(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cipate the types of questions you might be asked and be ready with appropriate respons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visual aids that wi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 your presentation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 prepared with all of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, practice, and prac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mo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Picture 1" descr="th-2.jpg"/>
          <p:cNvPicPr/>
          <p:nvPr/>
        </p:nvPicPr>
        <p:blipFill>
          <a:blip r:embed="rId1"/>
          <a:stretch/>
        </p:blipFill>
        <p:spPr>
          <a:xfrm>
            <a:off x="6400800" y="32767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 Black"/>
              </a:rPr>
              <a:t>Success!</a:t>
            </a:r>
            <a:endParaRPr b="0" lang="en-US" sz="5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will do a SUPERB job!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11:18Z</dcterms:created>
  <dc:creator> </dc:creator>
  <dc:description/>
  <dc:language>en-US</dc:language>
  <cp:lastModifiedBy>Karen Verkler</cp:lastModifiedBy>
  <dcterms:modified xsi:type="dcterms:W3CDTF">2014-08-04T20:16:00Z</dcterms:modified>
  <cp:revision>51</cp:revision>
  <dc:subject/>
  <dc:title>Slide 1</dc:title>
</cp:coreProperties>
</file>